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2C5-D154-4855-8737-EC70C524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4D5-42C2-43C9-B750-03A66832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80F-F1DA-431C-AA81-EEEAEE72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DE5-A1B7-4A15-AE21-78691034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818-6B1F-4799-85F2-F60D7B50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F8F-FDF9-4E6A-B1B1-38B28079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8B1E-4EB7-45F6-968B-18376DDB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748-5684-4413-BCC2-41698A93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FCD-6C19-4FEE-A5F7-A78583A1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FE6-8603-4FE0-9991-B52C4232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388-CCEF-4C8A-B3E8-BA7833EC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0BB-B277-492C-A7D4-96ABDD02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9834-2AC4-44D0-85A7-5BA8DC568C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ward Park Environmental &amp; Audubon Center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6019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hley Me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457200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ssion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 inspire exploration, discovery, and stewardship of the natural world through programs that promote healthy, sustainable communiti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26049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eward Park Environmental &amp; Audubon Center off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/evening lectures, lessons, and programs ranging from one hour to all d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s include birding, gardening, tales and tr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: many are FREE or range $2.00- 5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198108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 out Audubon magazine!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, subscribe to Audubon magazine and read articles with your students! This is an easy way to explore nature without leaving your classroo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697120" cy="3676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audubonmagazine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else does Seward Park offer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0 acres of beautiful forest land that is home old growth forest and eagles' n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les of hiking tr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4 mile bike and walking p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phithe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ve plant ga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a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se activities are FREE and a great way to get your students out in natu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5398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2:19:41Z</dcterms:created>
  <dc:creator>Ashley Meyer</dc:creator>
  <dc:description/>
  <dc:language>en-US</dc:language>
  <cp:lastModifiedBy>Ashley Meyer</cp:lastModifiedBy>
  <dcterms:modified xsi:type="dcterms:W3CDTF">2012-03-07T02:44:17Z</dcterms:modified>
  <cp:revision>1</cp:revision>
  <dc:subject/>
  <dc:title>Seward Park Environmental &amp; Audubon Center </dc:title>
</cp:coreProperties>
</file>